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8D6-AE17-4540-A5BB-0F6665B6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E20-5B72-4C08-9CDE-3F4F67AE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4A7-33D9-41BE-AE75-C2380DBC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2179-CB32-4C93-B363-60758FD2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FA12-5D40-495B-B98E-69126851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8663-7379-4E0D-BEB4-8E0E1169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6A01-B3D1-46D1-8CE6-C58E92B0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CB61-61C8-4D8F-A6B1-A7854065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F5EC-62DE-45A8-A79B-DC0F4652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53BE-87A5-4962-B37C-35E50B91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6DCB-6673-4799-BB05-5403BED6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6BC-ADF3-438A-AC3C-3D7EDF19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CE05-8BA7-48D8-9FFF-3A7E28A3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0E91-0D65-40FE-BED9-064EDAEF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A564-4335-407F-B35D-493EC794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5DED-C077-401C-86E8-54B46EA4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7CBC-3292-463A-8FB7-20D670A7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44B-9745-4B3A-B6A6-66806859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A52-4B35-4BBD-9698-322D715E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839-825D-4BBC-9F90-1C099A7A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F57-DE7A-4301-89BB-BC4182F3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9B6-0504-42C8-8182-1B7AAB43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C05-79E7-42B2-A2D0-26137174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660-CD45-489D-A59D-4838CF86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D2D3-BD0C-46FD-B8DE-4F39B97F57ED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ED05-1256-4D71-9B77-529C50BACC53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Arial"/>
              </a:rPr>
              <a:t>A RELÁCIÓS ALGEB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Összekapcsolás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(jele: &gt;&lt;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egyen R n-ed fokú, S pedig m –ed fokú reláci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&gt;&lt;S n+m –ed fokú reláció, melynek elemei az RxS elemei közül azok, amelyekre az R reláció i. és az S reláció j. attribútuma között teljesül a </a:t>
            </a: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-val jelölt összehasonlítás (&lt;,&gt;,= stb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öviden: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 = </a:t>
            </a: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Arial"/>
              </a:rPr>
              <a:t>(n+j)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(Rx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2000" y="4005360"/>
            <a:ext cx="280800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xS               A B C D E 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b  c b  d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 b  c  f 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d  e  f  c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 a  f  c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27280" y="4869000"/>
            <a:ext cx="64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&gt;&l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ermészetes összekapcsolá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(jele:</a:t>
            </a: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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egyen R n –ed fokú, S m –ed fokú reláció,R</a:t>
            </a: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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 –t a következőképpen kapju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épezzük RxS –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együk az azonos attributumokat R-ből és S –ből, és emeljük ki azokat a sorokat RxS –ből, amelyekben az azonos oszlopban lévő értékek megegyez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nti pontban vett attribútumokra szüntessük meg az ismétlödő oszlopo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1557360"/>
            <a:ext cx="1800000" cy="216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1557360"/>
            <a:ext cx="1800000" cy="216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2421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8360" y="2421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1557360"/>
            <a:ext cx="2808360" cy="216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 u="sng">
                <a:solidFill>
                  <a:srgbClr val="ffffff"/>
                </a:solidFill>
                <a:uFillTx/>
                <a:latin typeface="Arial"/>
              </a:rPr>
              <a:t>RxS    R.A B R.C S.A E S.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   b   c   b   d  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   b   c   f    c  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  d    e   b   d  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  d    e    f    c 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  c    a    b   d 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  c    a    f    c 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32000" y="5013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08360" y="4076640"/>
            <a:ext cx="2808360" cy="216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lang="hu-HU" sz="1800" spc="-1" strike="noStrike" u="sng" baseline="-25000">
                <a:solidFill>
                  <a:srgbClr val="ffffff"/>
                </a:solidFill>
                <a:uFillTx/>
                <a:latin typeface="Garamond"/>
              </a:rPr>
              <a:t>RxS</a:t>
            </a:r>
            <a:r>
              <a:rPr b="0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     R.A B R.C S.A E S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    d    e   b   d  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    c    a    f    c 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4076640"/>
            <a:ext cx="2808360" cy="216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 u="sng">
                <a:solidFill>
                  <a:srgbClr val="ffffff"/>
                </a:solidFill>
                <a:uFillTx/>
                <a:latin typeface="Arial"/>
              </a:rPr>
              <a:t>RxS    R.A B R.C S.A E S.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   b   c   b   d  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   b   c   f    c  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  d    e   b   d  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  d    e    f    c 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  c    a    b   d 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  c    a    f    c 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 rot="10800000">
            <a:off x="6300720" y="4940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4076640"/>
            <a:ext cx="1800360" cy="216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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A B C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a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relációs adatbázis kezelő nyelvek lekérdezési lehetős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relációs algebra műveletein alapsz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Uni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ülönb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escartes szorz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rojek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lekci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ány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ets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Összekapcso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rmészetes összekapcso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Unió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jele :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gyen R és S két n-ed fokú reláci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uniójuk az R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S  szintén n-ed fokú rel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orai vagy az R –nek vagy az S –nek vagy mindkettőnek elem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4005360"/>
            <a:ext cx="180000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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ülünbség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jele : -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yen R és S két n-ed fokú reláci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 - S  különbsége szintén n-ed fokú rel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orai vagy az R –nek elemei de az S –nek n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4005360"/>
            <a:ext cx="180000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-S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escartes –szorzat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jele: x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gyen R n –ed , S m –ed fokú rel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escartes-szorzatuk az az (n+m) –ed fokú Rx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den elem első részét az R –ből, második részét pedig az S –ből vesszü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4005360"/>
            <a:ext cx="280800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xS               A B C D E 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b  c b  d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 b  c  f 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d  e  b  d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d e  f  c 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 a  b  d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 a  f  c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jekció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jele:</a:t>
            </a:r>
            <a:r>
              <a:rPr b="0" lang="el-GR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Kiemelünk attribútumokat és a maradékot adott szempont szerint átrendezzü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hu-HU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1,i2,…,im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(R) –lel jelöljük, ahol az i1,i2,…,im a megadott és átrendezett attribútumot neve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</a:t>
            </a:r>
            <a:r>
              <a:rPr b="1" lang="hu-HU" sz="1800" spc="-1" strike="noStrike" baseline="-25000">
                <a:solidFill>
                  <a:srgbClr val="ffffff"/>
                </a:solidFill>
                <a:latin typeface="Garamond"/>
              </a:rPr>
              <a:t>C,B</a:t>
            </a: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(R)      C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c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d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lekció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jele (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hu-HU" sz="24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Az R reláción végzett szelekció egy olyan relációt eredményez, amelynek elemei az R reláció elemeiből kerülnek ki az F feltétel (logikai kifejezés) által meghatározott mód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C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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’a’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ányados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jele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Legyen R n –ed fokú, S m –ed  fokú reláció (n &gt; m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Az R és S hányadosa az 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S reláció, amely n-m oszlopból áll, és amelynek Descartes –szorzata az S relációval benne van az R relációb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(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S) x S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A B C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b  c  d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d  e  e 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b  c  f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   F 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d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27280" y="47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35640" y="486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÷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Művelet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tszet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jele: 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ét n –ed fokú reláció, R és S R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 –sel jelölt metszetén az  R – ( R-S) relációt értj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A B 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b  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d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c  f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f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27280" y="47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35640" y="486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84720" y="4005360"/>
            <a:ext cx="180036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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11:32:22Z</dcterms:created>
  <dc:creator>Nagymáté Péter</dc:creator>
  <dc:description/>
  <dc:language>en-US</dc:language>
  <cp:lastModifiedBy>Nagymáté Péter</cp:lastModifiedBy>
  <dcterms:modified xsi:type="dcterms:W3CDTF">2003-12-16T13:02:30Z</dcterms:modified>
  <cp:revision>6</cp:revision>
  <dc:subject/>
  <dc:title>A RELÁCIÓS ALGEBRA</dc:title>
</cp:coreProperties>
</file>